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AED-0E4A-4BDB-A0C4-85DDD5F3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E9E-ED1F-4799-B406-995B9715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DCF-B09B-4164-BEA2-599C0736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0408-9DFA-4CB5-BF98-27B8DF67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129C-DEC6-43D8-8C1C-5AC634FF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CA11-61AC-4898-B4A9-2958EFBF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FAEA-506D-43D6-B645-24E3A253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BE2-589F-4F9F-AF2D-B02E31B8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C01E-63AF-4A81-BB5B-56F09DA5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863B-0B99-49B1-AC74-770E2761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80F-DC9B-47C1-9E08-9973A333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4823-96FA-478F-A78D-64910846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003D-4D82-4F33-8EB7-D2276948B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y make their poi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y bu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Pencils are the most convenient writ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They come in large amounts and are che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They have a built in eraser to fix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mall and portable to carry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2971800" cy="204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75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75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50000">
              <a:srgbClr val="66ccff"/>
            </a:gs>
            <a:gs pos="100000">
              <a:srgbClr val="2f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d a splash of Colo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lored pencils are the same as pencils except without erasers and in many col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major color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the fu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esn’t stop there, they come in every color in-betw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86400" y="2819520"/>
            <a:ext cx="2971800" cy="20844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 many!!!!!!!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ncils come in many different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ernard MT Condensed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Euphemia UCAS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Euphemia UCAS Italic"/>
              </a:rPr>
              <a:t>flex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igns and special occa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629400" y="4343400"/>
            <a:ext cx="2514600" cy="2216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505320" y="2666880"/>
            <a:ext cx="717480" cy="1967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9320" y="5105520"/>
            <a:ext cx="2286000" cy="1752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ff"/>
                </a:solidFill>
                <a:latin typeface="Arial"/>
              </a:rPr>
              <a:t>Era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f you use your beloved pencil enough then the eraser will run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N’T PANI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ou can buy special erasers that fit on the end of your 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For heavy duty erasing you can buy big hand-held era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8:38:34Z</dcterms:created>
  <dc:creator>Educational Technology</dc:creator>
  <dc:description/>
  <dc:language>en-US</dc:language>
  <cp:lastModifiedBy>Educational Technology</cp:lastModifiedBy>
  <dcterms:modified xsi:type="dcterms:W3CDTF">2007-05-23T13:07:54Z</dcterms:modified>
  <cp:revision>3</cp:revision>
  <dc:subject/>
  <dc:title>Pencils</dc:title>
</cp:coreProperties>
</file>